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A787-4B05-4671-9ACF-171A60401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C304-621A-4C6E-B70B-6156FCB3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962D-BA6B-4F33-BC9B-072F3F7A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C030-A1F1-408A-BE25-AE6AB4A9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1985-8CDD-4644-8952-52CD4D79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84D7-0E29-4DBC-AAFF-4AB1C221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FFD2-DE1E-47EB-A3B3-282F4074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A591-2ABE-42FF-97D6-75F87AF8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8443-04CA-4439-AB04-B1648590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77DC-721D-4285-A1EB-E11858BB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334C-7D6C-4645-B289-A953597F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4888-975E-4D32-B158-2F6F6590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F6A6-3AE0-494F-A0B6-CE07AAB63521}" type="slidenum">
              <a:rPr b="0" lang="ru-RU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16000" y="1700280"/>
            <a:ext cx="6656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Экология</a:t>
            </a: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 – наука о взаимоотношениях живой материи с окружающей средой .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"/>
          <p:cNvSpPr/>
          <p:nvPr/>
        </p:nvSpPr>
        <p:spPr>
          <a:xfrm>
            <a:off x="4211640" y="2205000"/>
            <a:ext cx="4681440" cy="40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987560"/>
            <a:ext cx="2736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атмосфера, литосфера и биосфера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Picture 4" descr="Биосфера Земли"/>
          <p:cNvPicPr/>
          <p:nvPr/>
        </p:nvPicPr>
        <p:blipFill>
          <a:blip r:embed="rId1"/>
          <a:stretch/>
        </p:blipFill>
        <p:spPr>
          <a:xfrm>
            <a:off x="3276720" y="2205000"/>
            <a:ext cx="5688000" cy="4032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250920" y="1052640"/>
            <a:ext cx="86421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Естественная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окружающая среда это геосферы планеты: гидросфера,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868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скусственная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среда, или  техносфера – это создание ума и рук человека: фабрики и заводы, города и сёла, наземный водный и воздушный транспорт, средства связи и прочее.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9" name="Picture 4" descr="Железные дороги"/>
          <p:cNvPicPr/>
          <p:nvPr/>
        </p:nvPicPr>
        <p:blipFill>
          <a:blip r:embed="rId1"/>
          <a:stretch/>
        </p:blipFill>
        <p:spPr>
          <a:xfrm>
            <a:off x="4932360" y="377208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0407"/>
          <p:cNvPicPr/>
          <p:nvPr/>
        </p:nvPicPr>
        <p:blipFill>
          <a:blip r:embed="rId2"/>
          <a:stretch/>
        </p:blipFill>
        <p:spPr>
          <a:xfrm>
            <a:off x="395280" y="4005360"/>
            <a:ext cx="2521080" cy="259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0389"/>
          <p:cNvPicPr/>
          <p:nvPr/>
        </p:nvPicPr>
        <p:blipFill>
          <a:blip r:embed="rId3"/>
          <a:stretch/>
        </p:blipFill>
        <p:spPr>
          <a:xfrm>
            <a:off x="2411280" y="3716280"/>
            <a:ext cx="460872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еобразованная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среда, или агросфера, сочетает в себе признаки естественной и видоизменённой хозяйственной деятельностью человека (пашни, луга, пастбища, пруды, водохранилище, сады и парки, искусственные лесопосадки  и другие)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54" name="Picture 4" descr="Untitled - 5"/>
          <p:cNvPicPr/>
          <p:nvPr/>
        </p:nvPicPr>
        <p:blipFill>
          <a:blip r:embed="rId1"/>
          <a:stretch/>
        </p:blipFill>
        <p:spPr>
          <a:xfrm>
            <a:off x="4427640" y="4168800"/>
            <a:ext cx="4406760" cy="2500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Untitled - 6"/>
          <p:cNvPicPr/>
          <p:nvPr/>
        </p:nvPicPr>
        <p:blipFill>
          <a:blip r:embed="rId2"/>
          <a:stretch/>
        </p:blipFill>
        <p:spPr>
          <a:xfrm>
            <a:off x="179280" y="4552920"/>
            <a:ext cx="417672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ирода не признаёт шуток, она всегда серьёзна, всегда строга, она всегда права, ошибки же и заблуждения исходят от людей»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427640" y="4653000"/>
            <a:ext cx="40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cc"/>
                </a:solidFill>
                <a:latin typeface="Arial"/>
              </a:rPr>
              <a:t>Вольфганг Гёте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79280"/>
            <a:ext cx="8964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Некоторые из основных экологических проблем мир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ничтожение лес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Токсичные отходы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Деградация земель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одный кризис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счезновение вид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агрязнение атмосферы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1" name="Picture 5" descr="Последствия глобального потепления, как указывается в докладе, будут непропорциональны и больнее всего отзовутся именно на самых бедных регионах мира. Экологические проблемы могут поставить под угрозу достижение цели сокращения бедности в мире вдвое к 201"/>
          <p:cNvPicPr/>
          <p:nvPr/>
        </p:nvPicPr>
        <p:blipFill>
          <a:blip r:embed="rId1"/>
          <a:stretch/>
        </p:blipFill>
        <p:spPr>
          <a:xfrm>
            <a:off x="5867280" y="16286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image_4088"/>
          <p:cNvPicPr/>
          <p:nvPr/>
        </p:nvPicPr>
        <p:blipFill>
          <a:blip r:embed="rId2"/>
          <a:stretch/>
        </p:blipFill>
        <p:spPr>
          <a:xfrm rot="19695600">
            <a:off x="6876720" y="4723920"/>
            <a:ext cx="1584360" cy="1131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img_eco01"/>
          <p:cNvPicPr/>
          <p:nvPr/>
        </p:nvPicPr>
        <p:blipFill>
          <a:blip r:embed="rId3"/>
          <a:stretch/>
        </p:blipFill>
        <p:spPr>
          <a:xfrm>
            <a:off x="5796000" y="1628640"/>
            <a:ext cx="3103560" cy="2116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pj040101"/>
          <p:cNvPicPr/>
          <p:nvPr/>
        </p:nvPicPr>
        <p:blipFill>
          <a:blip r:embed="rId4"/>
          <a:stretch/>
        </p:blipFill>
        <p:spPr>
          <a:xfrm>
            <a:off x="5796000" y="1628640"/>
            <a:ext cx="3114720" cy="2343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pic"/>
          <p:cNvPicPr/>
          <p:nvPr/>
        </p:nvPicPr>
        <p:blipFill>
          <a:blip r:embed="rId5"/>
          <a:stretch/>
        </p:blipFill>
        <p:spPr>
          <a:xfrm>
            <a:off x="5796000" y="1628640"/>
            <a:ext cx="3097080" cy="2117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expert-sibir_23_016"/>
          <p:cNvPicPr/>
          <p:nvPr/>
        </p:nvPicPr>
        <p:blipFill>
          <a:blip r:embed="rId6"/>
          <a:stretch/>
        </p:blipFill>
        <p:spPr>
          <a:xfrm>
            <a:off x="5651640" y="1557360"/>
            <a:ext cx="32176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000" y="178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иски возобновляемых источников энерг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36734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Солнечная энергия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Энергия ветра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идроэлектричество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9" name="Picture 5" descr="7-3SunShot"/>
          <p:cNvPicPr/>
          <p:nvPr/>
        </p:nvPicPr>
        <p:blipFill>
          <a:blip r:embed="rId1"/>
          <a:stretch/>
        </p:blipFill>
        <p:spPr>
          <a:xfrm>
            <a:off x="6154560" y="1700280"/>
            <a:ext cx="2791080" cy="2179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14_sun_energ"/>
          <p:cNvPicPr/>
          <p:nvPr/>
        </p:nvPicPr>
        <p:blipFill>
          <a:blip r:embed="rId2"/>
          <a:stretch/>
        </p:blipFill>
        <p:spPr>
          <a:xfrm>
            <a:off x="6083280" y="1700280"/>
            <a:ext cx="2857680" cy="2152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Солнце садится за ветровой электростанцией, расположенной недалеко от г. Монтесума, шт. Канзас"/>
          <p:cNvPicPr/>
          <p:nvPr/>
        </p:nvPicPr>
        <p:blipFill>
          <a:blip r:embed="rId3"/>
          <a:stretch/>
        </p:blipFill>
        <p:spPr>
          <a:xfrm>
            <a:off x="5435640" y="1700280"/>
            <a:ext cx="3492360" cy="2759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040920offshore"/>
          <p:cNvPicPr/>
          <p:nvPr/>
        </p:nvPicPr>
        <p:blipFill>
          <a:blip r:embed="rId4"/>
          <a:stretch/>
        </p:blipFill>
        <p:spPr>
          <a:xfrm>
            <a:off x="5364000" y="1700280"/>
            <a:ext cx="3571920" cy="2552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040723_einfuehrung_geothermie_bine_sb_bild"/>
          <p:cNvPicPr/>
          <p:nvPr/>
        </p:nvPicPr>
        <p:blipFill>
          <a:blip r:embed="rId5"/>
          <a:stretch/>
        </p:blipFill>
        <p:spPr>
          <a:xfrm>
            <a:off x="5364000" y="1700280"/>
            <a:ext cx="3530880" cy="2565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Братская ГЭС"/>
          <p:cNvPicPr/>
          <p:nvPr/>
        </p:nvPicPr>
        <p:blipFill>
          <a:blip r:embed="rId6"/>
          <a:stretch/>
        </p:blipFill>
        <p:spPr>
          <a:xfrm>
            <a:off x="4643280" y="170028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Гейзер на о"/>
          <p:cNvPicPr/>
          <p:nvPr/>
        </p:nvPicPr>
        <p:blipFill>
          <a:blip r:embed="rId7"/>
          <a:stretch/>
        </p:blipFill>
        <p:spPr>
          <a:xfrm>
            <a:off x="3995640" y="1628640"/>
            <a:ext cx="4811760" cy="32068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6"/>
          <p:cNvSpPr/>
          <p:nvPr/>
        </p:nvSpPr>
        <p:spPr>
          <a:xfrm>
            <a:off x="216000" y="4824360"/>
            <a:ext cx="882000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еотермальная энергия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Энергия приливов и отлив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4500"/>
                            </p:stCondLst>
                            <p:childTnLst>
                              <p:par>
                                <p:cTn id="9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Вопросы для самопровер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Почему нам необходимо знать экологию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тношение человека к окружающей среде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кружающая среда, какая она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Экологическое исследование: «Моё отношение к окружающей среде»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0:31:51Z</dcterms:created>
  <dc:creator>Кирьянова</dc:creator>
  <dc:description/>
  <dc:language>en-US</dc:language>
  <cp:lastModifiedBy>Владелец</cp:lastModifiedBy>
  <dcterms:modified xsi:type="dcterms:W3CDTF">2009-02-02T08:37:57Z</dcterms:modified>
  <cp:revision>19</cp:revision>
  <dc:subject/>
  <dc:title>Экология</dc:title>
</cp:coreProperties>
</file>